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E61D-6F88-4E21-99C1-C6CABCB0C0E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A997-BC78-45CD-A96C-CEA17053D2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7404-FFBA-4F7F-A339-D7FC3205686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5843-F5CA-46BC-B96F-7CDB01F9843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DF3F-B77E-4E03-BB73-F468C34CD7C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39B-27CD-42E2-9D7A-281C1C37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51D-61C7-4AC7-A2E3-48FBC242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47D-4351-405A-A5F8-A0542597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08C-255C-498F-8FFB-0BFB6907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0FC-37EB-4FDC-AD12-B0C8A0E3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3BD3-1CD1-4FDD-A182-41DE9219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63C-ADC0-4CE0-B23F-6513742E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08E-DAEE-4898-8F68-020B5F4B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1BA-0C4D-4693-9B9D-E099737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113-E748-4D7F-9FDF-3239A9A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782-DD24-43F6-A9AD-CE80498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317-CA8F-4B19-A490-55892EB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B531-31C5-49F2-9C5B-ED8E90C2C2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 e 20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dcterms:modified xsi:type="dcterms:W3CDTF">2019-02-27T21:02:25Z</dcterms:modified>
  <cp:revision>23</cp:revision>
  <dc:subject/>
  <dc:title>Apresentação do PowerPoint</dc:title>
</cp:coreProperties>
</file>